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9A9D-7B0D-4AEB-90A0-0111955AB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is a start, this isn’t going to help us much.  A whole raft of cbs will probably meet thes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job is to develop a more detailed set of criteria based on your beliefs as a teacher, what you know about students’ needs and wants, and what you feel will support lear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the book has been selected, the real evaluation begins as you monitor its us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eet student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help the learners to use language for their ow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otivat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colleagues think?</a:t>
            </a:r>
            <a:br>
              <a:rPr sz="1200"/>
            </a:br>
            <a:r>
              <a:rPr b="0" lang="en-US" sz="1200" spc="-1" strike="noStrike">
                <a:solidFill>
                  <a:srgbClr val="000000"/>
                </a:solidFill>
                <a:latin typeface="Arial"/>
              </a:rPr>
              <a:t>How did your checklist do? Would you change anything nex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ursebook is going to be 100% appropriate.  Indeed, most teachers would be unhappy if it were as for most creating their own material is part of the joy of teaching. In our book we provide lots of ideas for working with your coursebook to ensure that when it doesn’t fit it provides the basis for material that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key approaches to using the course book for inp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rse books have more information and activities than can possibly be covered in the time allowed.  Selection, then, becomes a key aspect of the teacher’s job.  Again, random choosing is not what we are after (although we have all done this!).  Systematic choice is a better b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like the language focus of an activity or the text but not like the activity that the coursebook writers have generated to go with the activity (this frequently happens to me!).  For example, there is very little that grabs me about anything on these two pages: there is little opportunity for student interaction, the listening text focuses too much on difficult names that the students don’t need to know, the articles exercise rehearses a whole raft of rules about usage that a student couldn’t possibly internalise and there is far too much crammed on to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finitely adapt this 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r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personal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o relate to their own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ords you don’t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we are so busy trying to get through the coursebook we forget the importance of review.  Review can also be dull or done in terms of assessment, but it doesn’t have to be like that.  Students generally like review but don’t like tests!  Reviews can be done at any point during the lesson but can be conflated with warm up activities at the start of class to remind students of where they are and where they are go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book is called the Coursebook and Beyond as there is no doubt that in this day and age the course book is just the start of our explorations with our stud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institutions, the coursebook certainly does the former, providing a syllabus rather than merely materials that can be used to teach elements on another syllabus.  However, unless we understand the underlying theories on which the course book is based, we might discover that what is taught and the way it is taught does not accord with our own beliefs about teaching and learning.  Which takes us on to our second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list of (British) coursebooks listed.   Generally a divide between those predicated on a particular theoretical basis and those that take a more eclectic/generally communciative approach.  There is also a divide between cbs prepared for the international market and those designed for the local market.  However, it is the big publishers that tend to dominate, with local publishers tending to focus on niche markets such as IELTS or TOEFL preparation, recipe books or skills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the dominance of the international coursebooks is their blandness and contextless nature, and the general nature of the topics they cover.  So recently, I was sent this list of topics to comment on by a publish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of these ‘topics’ fills me with enthusiasm and they seem to me to follow rather than lead in terms of meeting the interests of learners.  Coursebooks become homogenous and bland and often there is little to choose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hich brings us to our next ar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been disappointed when the hype or the surface information did not live up to the reality in the classroom.  For example, Cobuild series which I enjoyed using pedagogically but hated in terms of the presentation on the page.  Recently the Innovations series seems over-reliant on lexical chunks while a number of textbooks seem to feature long, involved texts as if it is the length that produces the interest or the level of difficulty rather than the text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book, The Coursebook and Beyond, we suggest a simple approach to choosing a coursebook based on a number of approaches we have seen others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n ideal situations you also know the needs, interests, learning styles/preferences and strengths and weaknesses in English.  However, this is often unrealistic as the coursebook must be chosen before the class either convenes or has been met by the teac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679E5-CF6B-4FAF-8B12-191EE68A1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44177-5AFC-4FAC-A2E3-84DE5F7F6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3E2FF-36B6-42B3-84C1-799ADD62B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8EF6E-A1A2-4C5C-BC5E-F8461269C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6978E-E31F-46A9-A43A-9324A7F47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5C013-BECA-4FD9-B08F-E902983B4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54706-F04B-4527-B150-D7AA10232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6DC5A-008B-42E6-805C-7CD24BEC0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57222-47E5-48E8-ADB1-3E75E40D7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76415-EAC0-4C83-B9BB-83EA997E6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931B6-0047-48D1-AE58-CF353F673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E8B79-EBAA-46B0-B609-279A1436C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C283D-5324-466C-8966-44A77328D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5BA58-253A-42B7-BAB0-2C01DEFAF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3A5AA-7E79-4291-A743-8595F9FA4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75870-7A73-4785-8CDC-90B099142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5948D-C1EA-4626-B405-0BE3BD90A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D240A-77E3-4ACC-9F27-5D213D32E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6ED36-B56B-439E-9790-54A9FD26D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D5972-A73A-4CD8-8251-DE02F70EB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10B78-E63C-4C82-BD69-2EBFC9E6B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536C5-D963-45F8-9626-E7AD2E9DE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CA5C6-1048-483F-A54E-72B0D5B08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E20B-441F-44FC-8451-42054DE37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306A-E123-48C7-B223-0BE31EDF9E8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E2D5-8ABF-43EF-B7F3-D6A6B769C5E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omputer_virus"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Role of the Coursebook</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1" name="PlaceHolder 1"/>
          <p:cNvSpPr>
            <a:spLocks noGrp="1"/>
          </p:cNvSpPr>
          <p:nvPr>
            <p:ph/>
          </p:nvPr>
        </p:nvSpPr>
        <p:spPr>
          <a:xfrm>
            <a:off x="900000" y="2362320"/>
            <a:ext cx="7631280" cy="449568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swers to the above questions form the first set of criteria:</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itable for 14 -18 year ol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intermediate</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portunities for group/pair/whole class learn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pare students for Cambridge KE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syllabus of what is to be learnt, in what order, and to what exten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rehensive workbook (so that parents can monitor students’ learning).</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ased on your own beliefs regarding language learning and teaching in the context in which you work, design ten further criteria which you hope any coursebook should fulfil (e.g. uncluttered lay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checklist</a:t>
            </a:r>
            <a:endParaRPr b="1" lang="en-US" sz="3600" spc="-1" strike="noStrike">
              <a:solidFill>
                <a:srgbClr val="006666"/>
              </a:solidFill>
              <a:latin typeface="Arial"/>
            </a:endParaRPr>
          </a:p>
        </p:txBody>
      </p:sp>
      <p:graphicFrame>
        <p:nvGraphicFramePr>
          <p:cNvPr id="125" name=""/>
          <p:cNvGraphicFramePr/>
          <p:nvPr/>
        </p:nvGraphicFramePr>
        <p:xfrm>
          <a:off x="838080" y="2362320"/>
          <a:ext cx="7693200" cy="4532040"/>
        </p:xfrm>
        <a:graphic>
          <a:graphicData uri="http://schemas.openxmlformats.org/drawingml/2006/table">
            <a:tbl>
              <a:tblPr/>
              <a:tblGrid>
                <a:gridCol w="3662640"/>
                <a:gridCol w="1366560"/>
                <a:gridCol w="1297080"/>
                <a:gridCol w="1366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Essential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cluttered layout</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utcome driven speak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uctured writ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quent but short reading tex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ning texts provided</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Desirable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based on frequenc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What happens when the coursebook doesn’t ‘fit’?</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Selecting </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Adapt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Extend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Reviewing</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6"/>
                                        </p:tgtEl>
                                        <p:attrNameLst>
                                          <p:attrName>style.visibility</p:attrName>
                                        </p:attrNameLst>
                                      </p:cBhvr>
                                      <p:to>
                                        <p:strVal val="visible"/>
                                      </p:to>
                                    </p:set>
                                    <p:animEffect filter="fade" transition="in">
                                      <p:cBhvr additive="repl">
                                        <p:cTn id="71" dur="2000"/>
                                        <p:tgtEl>
                                          <p:spTgt spid="12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76" dur="2000"/>
                                        <p:tgtEl>
                                          <p:spTgt spid="12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1" dur="2000"/>
                                        <p:tgtEl>
                                          <p:spTgt spid="127">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6" dur="2000"/>
                                        <p:tgtEl>
                                          <p:spTgt spid="12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91"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ctivities</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ges taken from </a:t>
            </a:r>
            <a:r>
              <a:rPr b="0" lang="en-US" sz="2800" spc="-1" strike="noStrike">
                <a:solidFill>
                  <a:srgbClr val="33cccc"/>
                </a:solidFill>
                <a:latin typeface="Arial"/>
              </a:rPr>
              <a:t>Face to Face</a:t>
            </a:r>
            <a:r>
              <a:rPr b="0" lang="en-US" sz="2800" spc="-1" strike="noStrike">
                <a:solidFill>
                  <a:srgbClr val="003366"/>
                </a:solidFill>
                <a:latin typeface="Arial"/>
              </a:rPr>
              <a:t> Intermediate by Chris Redstone and Gillie Cunningham published by Cambridge University Pres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agine your class needed to develop listening skills and needed help with articles. The class lasts for 1 hour.  Which activities would you cho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apting Activitie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ould we adapt the following activit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stening activity (so it relied less on hearing the nam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pairwork activity (no 4) to make it more genuinely an information gap activit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articles activity (no 6) so that it is less rule hea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nding Activities</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basic approaches: repeat and reca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ir work activity again (no 4).  How could this be extended if some of the pairs in your class finished quick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ould you review the vocabulary that students learn in Virus Aler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 </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ings on a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bo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utbur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lman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Find the wo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d finally….</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en.wikipedia.org/wiki/Computer_viru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
          <p:cNvSpPr/>
          <p:nvPr/>
        </p:nvSpPr>
        <p:spPr>
          <a:xfrm>
            <a:off x="826920" y="3284640"/>
            <a:ext cx="71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webopedia.com/TERM/v/virus.html</a:t>
            </a:r>
            <a:endParaRPr b="0" lang="en-US" sz="2400" spc="-1" strike="noStrike">
              <a:solidFill>
                <a:srgbClr val="003366"/>
              </a:solidFill>
              <a:latin typeface="Arial"/>
            </a:endParaRPr>
          </a:p>
        </p:txBody>
      </p:sp>
      <p:sp>
        <p:nvSpPr>
          <p:cNvPr id="141" name=""/>
          <p:cNvSpPr/>
          <p:nvPr/>
        </p:nvSpPr>
        <p:spPr>
          <a:xfrm>
            <a:off x="900000" y="40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youtube.com/watch?v=uK5ija2gVb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op Outline</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coursebook’s job?</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are coursebooks developed?</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you choose a courseboo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do when it doesn’t ‘fit’?</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 dur="2000"/>
                                        <p:tgtEl>
                                          <p:spTgt spid="10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7" dur="2000"/>
                                        <p:tgtEl>
                                          <p:spTgt spid="10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2" dur="2000"/>
                                        <p:tgtEl>
                                          <p:spTgt spid="10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7"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a:solidFill>
                  <a:srgbClr val="006666"/>
                </a:solidFill>
                <a:latin typeface="Arial"/>
              </a:rPr>
              <a:t>	</a:t>
            </a:r>
            <a:r>
              <a:rPr b="1" lang="en-US" sz="3600" spc="-1" strike="noStrike">
                <a:solidFill>
                  <a:srgbClr val="006666"/>
                </a:solidFill>
                <a:latin typeface="Arial"/>
              </a:rPr>
              <a:t>What is the coursebook’s job?</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d through the list.  Which of the items seems to you to be the job of the coursebook?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syllabus, outlining what is to be taught, and the order and depth it is to be taught i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training manual, helping teachers to develop their teach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interpret a methodology, so students get the best learning experience they ca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ive practice in the four skills and four system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help learners to develop their autonomous learn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explain to teachers (and learners) how English ‘work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take the planning burden away from teacher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he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are coursebooks developed?</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tting Ed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nov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line seri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buil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wa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ightforwa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rsebook topic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y (archaeolo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urism and Tra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ervation and Ener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71640" y="476280"/>
            <a:ext cx="7272360" cy="5977080"/>
          </a:xfrm>
          <a:prstGeom prst="rect">
            <a:avLst/>
          </a:prstGeom>
          <a:ln w="0">
            <a:noFill/>
          </a:ln>
        </p:spPr>
      </p:pic>
      <p:sp>
        <p:nvSpPr>
          <p:cNvPr id="113" name=""/>
          <p:cNvSpPr/>
          <p:nvPr/>
        </p:nvSpPr>
        <p:spPr>
          <a:xfrm>
            <a:off x="5651640" y="189000"/>
            <a:ext cx="2952720" cy="1439640"/>
          </a:xfrm>
          <a:prstGeom prst="wedgeRectCallout">
            <a:avLst>
              <a:gd name="adj1" fmla="val -43518"/>
              <a:gd name="adj2" fmla="val 700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ich one???</a:t>
            </a:r>
            <a:endParaRPr b="0" lang="en-US" sz="32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a:t>
            </a:r>
            <a:r>
              <a:rPr b="1" lang="en-US" sz="3600" spc="-1" strike="noStrike">
                <a:solidFill>
                  <a:srgbClr val="33cccc"/>
                </a:solidFill>
                <a:latin typeface="Arial"/>
              </a:rPr>
              <a:t>I </a:t>
            </a:r>
            <a:r>
              <a:rPr b="1" lang="en-US" sz="3600" spc="-1" strike="noStrike">
                <a:solidFill>
                  <a:srgbClr val="006666"/>
                </a:solidFill>
                <a:latin typeface="Arial"/>
              </a:rPr>
              <a:t>have chosen a textbook</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blurb or publishers’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repu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ractive layout or appear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mmended by a fri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braces the latest pedagogical approa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balance of skills and systems wor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osing a Coursebook</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What basic information should you know about the class before you choose a coursebook?</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gs you should know</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v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students in the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 for studying Englis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re is a syllab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keholders in the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8"/>
                                        </p:tgtEl>
                                        <p:attrNameLst>
                                          <p:attrName>style.visibility</p:attrName>
                                        </p:attrNameLst>
                                      </p:cBhvr>
                                      <p:to>
                                        <p:strVal val="visible"/>
                                      </p:to>
                                    </p:set>
                                    <p:animEffect filter="fade" transition="in">
                                      <p:cBhvr additive="repl">
                                        <p:cTn id="34" dur="20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9" dur="2000"/>
                                        <p:tgtEl>
                                          <p:spTgt spid="11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4" dur="2000"/>
                                        <p:tgtEl>
                                          <p:spTgt spid="11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9" dur="2000"/>
                                        <p:tgtEl>
                                          <p:spTgt spid="11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9">
                                            <p:txEl>
                                              <p:pRg st="3" end="3"/>
                                            </p:txEl>
                                          </p:spTgt>
                                        </p:tgtEl>
                                        <p:attrNameLst>
                                          <p:attrName>style.visibility</p:attrName>
                                        </p:attrNameLst>
                                      </p:cBhvr>
                                      <p:to>
                                        <p:strVal val="visible"/>
                                      </p:to>
                                    </p:set>
                                    <p:animEffect filter="fade" transition="in">
                                      <p:cBhvr additive="repl">
                                        <p:cTn id="54" dur="2000"/>
                                        <p:tgtEl>
                                          <p:spTgt spid="11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59" dur="2000"/>
                                        <p:tgtEl>
                                          <p:spTgt spid="11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19">
                                            <p:txEl>
                                              <p:pRg st="5" end="5"/>
                                            </p:txEl>
                                          </p:spTgt>
                                        </p:tgtEl>
                                        <p:attrNameLst>
                                          <p:attrName>style.visibility</p:attrName>
                                        </p:attrNameLst>
                                      </p:cBhvr>
                                      <p:to>
                                        <p:strVal val="visible"/>
                                      </p:to>
                                    </p:set>
                                    <p:animEffect filter="fade" transition="in">
                                      <p:cBhvr additive="repl">
                                        <p:cTn id="64"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7:09:51Z</dcterms:created>
  <dc:creator>Education Staff</dc:creator>
  <dc:description/>
  <dc:language>en-US</dc:language>
  <cp:lastModifiedBy>ISA</cp:lastModifiedBy>
  <dcterms:modified xsi:type="dcterms:W3CDTF">2008-10-22T12:03:28Z</dcterms:modified>
  <cp:revision>5</cp:revision>
  <dc:subject/>
  <dc:title>Slide 1</dc:title>
</cp:coreProperties>
</file>